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323E-3BFE-4ED6-9AF0-B1DCDC4C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FBD-7CC0-4038-BB7B-E15798AB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1C1-12B2-4318-A5EB-3A230552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00C-9CFF-4EE7-8684-B05C6C56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7AD-9C89-4BF3-A130-1BA12AEC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267-D33B-4F6D-9DD3-1E8E5A1E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BA6-6AE6-4185-BF2E-39D1E577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048-424A-4FC7-8CC4-26280067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6E5-BD0E-4907-A95F-2118FE57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877-3E1F-49E9-9F3C-2E118050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17A6-1E7C-45F7-958E-143E5EB9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B10-8BEB-45FA-9394-4C775EEC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D674-7079-479F-966C-1A7F5484CBB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674360"/>
            <a:ext cx="85345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ЛОШК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8066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Проф</a:t>
            </a:r>
            <a:r>
              <a:rPr b="1" lang="sr-Latn-C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.</a:t>
            </a:r>
            <a:r>
              <a:rPr b="1" lang="sr-C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др</a:t>
            </a:r>
            <a:r>
              <a:rPr b="1" lang="sr-Latn-C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Мирјана</a:t>
            </a:r>
            <a:r>
              <a:rPr b="1" lang="sr-Latn-C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Варјач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жен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r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ери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терусом са поремећајем јетрених ензима и присутним жучним бојама у урину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ц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е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чене или неадекватно лечене акутне форм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ћена оба бубрега. Ретко се развијају у трудноћ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 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ибиотска терап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enicilini, cephalosporini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– 6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ељ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мерулонефритис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к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tokok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римарног огњишт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onsilo– faringitis, sinuzitis)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е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из акутне форме, која код великог броја трудница најчешће прође неопажен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609480"/>
            <a:ext cx="856908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енз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ар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хематур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ур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ур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раулира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линд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и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њо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ц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литијаз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ар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а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а је микрохематурија, са негативном уринокултуром.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рђу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тразвучним преглед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ибиоти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их инфек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змолити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ше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жни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ус</a:t>
            </a:r>
            <a:br>
              <a:rPr sz="3200"/>
            </a:br>
            <a:br>
              <a:rPr sz="32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арн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индика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ме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олуциј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ће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жн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н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а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ђ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же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енз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лел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иц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иц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шћ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ај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aron, 1985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енитал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G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nuppel, 1986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M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мск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трак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г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ј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ханич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ес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вид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у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иран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усн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ормонс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еј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естерона)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г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%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мерулар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тра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 – 50%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улар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псорп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мењ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о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ита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митент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лаци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изат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ањ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ар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к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ц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Times YU"/>
                <a:ea typeface="Times New Roman"/>
              </a:rPr>
              <a:t>Асимптоматска</a:t>
            </a:r>
            <a:r>
              <a:rPr b="1" lang="en-US" sz="2900" spc="-1" strike="noStrike">
                <a:solidFill>
                  <a:srgbClr val="000000"/>
                </a:solidFill>
                <a:latin typeface="Times YU"/>
                <a:ea typeface="Times New Roman"/>
              </a:rPr>
              <a:t> </a:t>
            </a:r>
            <a:r>
              <a:rPr b="1" lang="sr-CS" sz="2900" spc="-1" strike="noStrike">
                <a:solidFill>
                  <a:srgbClr val="000000"/>
                </a:solidFill>
                <a:latin typeface="Times YU"/>
                <a:ea typeface="Times New Roman"/>
              </a:rPr>
              <a:t>бактериурија</a:t>
            </a:r>
            <a:br>
              <a:rPr sz="2900"/>
            </a:b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 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	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Асимптоматск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a (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скривен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a)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б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a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кт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e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риуриј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a je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стањ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e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док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a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з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a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не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б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a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кт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e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риуриј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e,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без знакова акутне уринарне инфекције.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Гранични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 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број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 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б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a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ктери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ja je 100 000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у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 1ml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урина</a:t>
            </a:r>
            <a:br>
              <a:rPr sz="2500"/>
            </a:b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Инциденца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об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o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љ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e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њ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a je 2 – 10% (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д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o 40%)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 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ч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 (70 – 9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ebsiella (10 – 15%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us mirabilis (5%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cus D i 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seudomona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denerela vaginal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по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crinning je 16 –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YU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65980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YU"/>
                <a:ea typeface="Times New Roman"/>
              </a:rPr>
              <a:t> </a:t>
            </a:r>
            <a:br>
              <a:rPr sz="2900"/>
            </a:b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-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ицим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ибиогр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500"/>
            </a:b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тит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nicilini, cephalosporini, aminoglikozidi i sulfonamidi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– 14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5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p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тур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излечења у року од 6 недеља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5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nfekcij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тур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м врстом бактерија, у току 6 недеља од завршене терапиј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yborn, 1986).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ити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ystitis acuta)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 процес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дентно са бубрег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ћ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чи с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coli, Proteus, Staphilococcus, Klebsiella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YU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20000" cy="731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о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стал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крењем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крењу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ћа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оћ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краћ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шик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фебрил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u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skretnu proteinuriju, masu Le, masu bakterija, sv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Er. 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биоти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ањ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– 14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в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</a:t>
            </a:r>
            <a:br>
              <a:rPr sz="2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001000" cy="590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јело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итис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а која захвата бубрежни паренхим.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циденц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1,5 – 2,5%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урич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38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у лумбалном пределу, повраћање, малаксалос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9:15:12Z</dcterms:created>
  <dc:creator>Registered User</dc:creator>
  <dc:description/>
  <dc:language>en-US</dc:language>
  <cp:lastModifiedBy>Machina</cp:lastModifiedBy>
  <dcterms:modified xsi:type="dcterms:W3CDTF">2015-05-11T12:26:53Z</dcterms:modified>
  <cp:revision>15</cp:revision>
  <dc:subject/>
  <dc:title>UROLO[KA OBOLJENJA U TRUDNO]I </dc:title>
</cp:coreProperties>
</file>