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777-0A5C-4BDE-A9E4-EA455DEB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EA1-C0C5-47AB-93F9-009A92EB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5F0-1BB1-47ED-A45D-5045D53A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A01-8911-4BA9-82C7-00D4E963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911-3F00-4D1E-88B3-2A79D5BB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AAB-64DA-4A3E-811B-AB67D022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9C7-855C-4091-882A-B28BA6E9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D0B-000F-42F3-B5AD-7D312023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466-406C-4AEB-AE96-E6DFABD5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F2B-0182-4ECA-81AE-01C1922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406-4298-4E04-85AB-AE8024B0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5A7-87A9-4CA6-B81D-D5B8065E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109F-F78F-47FE-AA36-0CA639FECD1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КРВАРЕЊ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ДРУГОЈ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ПОЛОВИНИ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оф. др Мирјана Варјачи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1676520"/>
            <a:ext cx="952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степ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лубљив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вич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скуд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пертону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теру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ул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Т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пи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руги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лубљи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арцијал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мере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тону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тер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орм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ахикар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ЦТ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апи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фетал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истре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Фибриног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ниж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716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Трећи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теп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лубљи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отал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бил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етанич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тер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ахикар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ЦТ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апи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фетал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м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Фибриног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ниж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мн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сонограф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хог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ехог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 крварењ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поехоге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ста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иног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нализе крв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докн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околи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р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нтибиот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брзана матур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етал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лућа кортикостероиди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FMU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агин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ођ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рек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агулацио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ат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ринар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те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л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4Н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рад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т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ар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abrupt-placenta"/>
          <p:cNvPicPr/>
          <p:nvPr/>
        </p:nvPicPr>
        <p:blipFill>
          <a:blip r:embed="rId1"/>
          <a:stretch/>
        </p:blipFill>
        <p:spPr>
          <a:xfrm>
            <a:off x="1523880" y="933480"/>
            <a:ext cx="66294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CENTA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AEV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ис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ађ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тељ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нутрашње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терич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шћ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њ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ИНЦИДЕНЦ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 4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1000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орођ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4-6%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руг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иместр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ЕТИОЛОГ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ар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уд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ултипарит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тход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шестру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тход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ирета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рст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ентра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рција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ргина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и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ађ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тељ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%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ова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з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1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ШЕР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КУШЕРС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previa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ФИЗИОЛОГ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метриј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ц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мич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у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же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ција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ЗНА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зненад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езбо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агин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вет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рв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ону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теру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акто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аг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лтрасонограф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ран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даље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њ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тељи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нутрашње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терич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шћ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ика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рш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нутрашњ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previja 2"/>
          <p:cNvPicPr/>
          <p:nvPr/>
        </p:nvPicPr>
        <p:blipFill>
          <a:blip r:embed="rId1"/>
          <a:stretch/>
        </p:blipFill>
        <p:spPr>
          <a:xfrm>
            <a:off x="1676520" y="1066680"/>
            <a:ext cx="60958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marginalprevia"/>
          <p:cNvPicPr/>
          <p:nvPr/>
        </p:nvPicPr>
        <p:blipFill>
          <a:blip r:embed="rId1"/>
          <a:stretch/>
        </p:blipFill>
        <p:spPr>
          <a:xfrm>
            <a:off x="1752480" y="762120"/>
            <a:ext cx="6019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ТЕРМИНС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аб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ализ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докна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рив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иро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окол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тибиоти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ртефицијал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тур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етал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лу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oppler i CTG monit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HOG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ZAVRŠAVANJE TRUDNOĆ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le 20 NG operativno uz pripremljenu nadoknadu kr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e 20 nedelje pokušati D i 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РУПТУР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МАРГИНАЛНОГ СИН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590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rvarenje pri kraju trudnoće i tokom porođa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rv je svet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Bez bol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VASA PRAEV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сер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упчани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лодов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војц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диден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:2000-5000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ођ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еринат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рталите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75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лп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до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ембран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лтразву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пп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vasa previja1"/>
          <p:cNvPicPr/>
          <p:nvPr/>
        </p:nvPicPr>
        <p:blipFill>
          <a:blip r:embed="rId1"/>
          <a:stretch/>
        </p:blipFill>
        <p:spPr>
          <a:xfrm>
            <a:off x="1143000" y="728640"/>
            <a:ext cx="701028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3880" y="198108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АКУШЕРСК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brupcija plac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lacenta prae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упту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ргинал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н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asa prae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uptura uteru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толош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л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илатацио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вар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vasa previja 3"/>
          <p:cNvPicPr/>
          <p:nvPr/>
        </p:nvPicPr>
        <p:blipFill>
          <a:blip r:embed="rId1"/>
          <a:stretch/>
        </p:blipFill>
        <p:spPr>
          <a:xfrm>
            <a:off x="914400" y="622440"/>
            <a:ext cx="800100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UPTURA UTERU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09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терн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рталите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4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ЦИДЕН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: 1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000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ођ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из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дуж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ођа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тход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теру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лаб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тер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ултипарите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ећ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раутерус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ултифет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лихидрамни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nt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ret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t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r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ЗНА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ери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ак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стана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на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ет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т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шо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ј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ред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би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агин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т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ар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бриња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ре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ПАТОЛОШКЕ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ГРЛИ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oli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rcino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ecidualni poli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Eroz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ДИЛАТАЦИОНО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посред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ођа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зла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ервик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че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њачеће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лат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рл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НЕАКУШЕР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ез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аг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лип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рцином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рл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дил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рои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ткоит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РУПЦИЈА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врем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лубљи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ађ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тељ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25-50%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зро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раутерус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мр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л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80%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посред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ођа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РИЗИК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те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еклампс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клампс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растегнуто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атер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вре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нома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атер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рата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упча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тхо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бруп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ултипари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АТОФИЗ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азалн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циду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ат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тељиц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терич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слобађ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кив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мбопласт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тиви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ска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аг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зроков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К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о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8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АТОФИЗ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субхорионск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рвар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етроплацен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еплацен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 (кр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уопш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5:18:21Z</dcterms:created>
  <dc:creator>Snezana</dc:creator>
  <dc:description/>
  <dc:language>en-US</dc:language>
  <cp:lastModifiedBy>Machina</cp:lastModifiedBy>
  <dcterms:modified xsi:type="dcterms:W3CDTF">2016-04-18T16:31:10Z</dcterms:modified>
  <cp:revision>16</cp:revision>
  <dc:subject/>
  <dc:title>KRVARENJA U DRUGOJ POLOVINI TRUDNOĆE</dc:title>
</cp:coreProperties>
</file>