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DF7-CB34-426D-9C22-8669A6C2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4ED-DF2A-4A29-B07C-91845D56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010-B17D-4D10-ABCB-02D560C9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759-D5A1-4450-A55F-44277005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81E-BFAA-4E73-B34F-E257B4D0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D36-76C5-4FF3-8F8C-86BD0B3A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444-251C-418C-B02C-BC9C05E6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E30-AA89-45FF-9BC3-E381055F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FA6-CF1E-4E89-BB71-79D6EFE9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677-7DDE-417B-996B-F67AF77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467-B8BA-4B5B-AF5C-AFABD719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D8B-A65E-4CFE-8FC5-144F955B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341F-44E8-4E97-93FB-E715B662265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Ј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ЈАЧ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Гравидарне</a:t>
            </a:r>
            <a:r>
              <a:rPr b="0" lang="en-US" sz="5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sr-CS" sz="5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токсикоз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фи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рес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6.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8920" y="9079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м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ронич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ерпонира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понир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м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понир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лам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П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-106668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тио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ес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р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цио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мунолош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правил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лац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Генетск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ео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тери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сх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стагландинс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исбаланс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стем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нин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гитен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тофизиолош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скулит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Генерализова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зоспа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ктив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агулационо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емост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ви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ш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ир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ње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е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цикл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кс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енц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васкулар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е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проте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љивост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ск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тив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фи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вањ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изова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ол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и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у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плацент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мпенз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егул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415360" cy="22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у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изиј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ј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в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г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њ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кулоеластич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и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чеза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спазм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оплацентн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357720"/>
            <a:ext cx="77724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ч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токсич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Г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Н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Ф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85480"/>
            <a:ext cx="85582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е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00" y="1714680"/>
            <a:ext cx="85010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отел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констриктив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епти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Yanagisawa, 1988.)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тент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je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ш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ја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в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ећ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тв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ц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а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о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хез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ендо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тромб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I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786880" cy="22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констри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дилат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278100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плацент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ди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71360" y="1356840"/>
            <a:ext cx="80722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I₂ (prostaciklin)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дил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ksan A₂ (TXA₂)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трикц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мптич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5/85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мпси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иш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k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/90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0/110 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 gr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gr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0 ml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јектив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рефлек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гастрич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О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итет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е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уј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оних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0/110 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gr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0ml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000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јектив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плоп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рефлек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гастрич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ини заст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773000"/>
            <a:ext cx="8686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ЛАМПС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че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о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79280" y="333360"/>
            <a:ext cx="8964720" cy="59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кламптичк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онвулзив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ап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 2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кун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ја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етлуцањ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ч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коче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ит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мич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за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тоничких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рчев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 2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кун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хва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итав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ускулату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а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исто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у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пне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ја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а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удниц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грож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лоничких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рчев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 9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кун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рчев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на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т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крвича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гри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з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ја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јач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с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ас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аћ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убо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мнезиј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дход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гађ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P sindrom</a:t>
            </a:r>
            <a:br>
              <a:rPr sz="28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а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j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з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хо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еш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к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ти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цистити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ир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гоб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гастријум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гр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физолог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P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уздан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стич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илатокс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мен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троцит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з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тич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ангиопат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кс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тон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спа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а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лутина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боц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ија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кад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ну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P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492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ал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ту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ијал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опениј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п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литич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миј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P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000/microL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-100 000/mic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хипер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костер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анде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в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99720"/>
            <a:ext cx="8520120" cy="17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,5 – 60%.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н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8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3573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но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о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19-2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нал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5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415360" cy="25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еклампсија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Основа</a:t>
            </a:r>
            <a:r>
              <a:rPr b="0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ерапије</a:t>
            </a:r>
            <a:r>
              <a:rPr b="0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–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ВЕН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571760" y="3213000"/>
            <a:ext cx="52862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хипертензив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нвулзив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еклампсије</a:t>
            </a:r>
            <a:r>
              <a:rPr b="1" lang="sr-Latn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4200" y="1981080"/>
            <a:ext cx="835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75mg – 100m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к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 Mg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љивањ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981080"/>
            <a:ext cx="86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оз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ест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итет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peremesis gravidarum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е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tial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оз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еклампс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нтихипертензивна</a:t>
            </a:r>
            <a:r>
              <a:rPr b="1" lang="en-US" sz="36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3600" spc="-1" strike="noStrike">
                <a:solidFill>
                  <a:srgbClr val="11488b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6760" y="198108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лују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др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гич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они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ери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ују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др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гич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они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лцију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т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Централно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делујућ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α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2 a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дрен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ргичк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гони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ldopa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 п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т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ам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т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ombs t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0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 2000mg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60280"/>
            <a:ext cx="84470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ериферно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делујућ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нтагонист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дренергичких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рецеп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4920" y="1557000"/>
            <a:ext cx="80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к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ич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ж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а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UG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п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ну цирк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100-1200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10-20mg i.v.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у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mg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0m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1071360"/>
            <a:ext cx="80722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 (Ebrantyl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ер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ич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5-HT1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нс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r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т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ц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50mg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v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њек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g/min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mg/h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нтагоности</a:t>
            </a:r>
            <a:r>
              <a:rPr b="1" lang="sr-Latn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калцијумових</a:t>
            </a:r>
            <a:r>
              <a:rPr b="1" lang="sr-Latn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bl. a 10mg; retard a 20m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ју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x5-10mg/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x20mg/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ју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1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зри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fedipina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SO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558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еклампсије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859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zijum sulfat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у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g (20%MgSO4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-2g/h (100ml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m.  5g (20%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6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c.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,8-8,7mg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itov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з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ич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те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hlorpromazin (Largactyl), Promethazin (Phenergan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din (Dolantin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% glukoz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вул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zepa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v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у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zijum sulfat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24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рудноћ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поручују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6760" y="1428840"/>
            <a:ext cx="81010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ије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алем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то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з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ују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E inhibitori)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S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м тримест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агони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зинск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к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је бубрега, редукција колочине плодове воде и неонатална ренална инсуфицијен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ова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-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ђ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G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ођ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ђ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D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ђ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илирубинем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рт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0-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и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итетн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mitus matutinus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ут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 труд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љ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вегетатив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ри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физиолош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хидрата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6426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is gravida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emessis gravidarum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ијал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кс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1285560"/>
            <a:ext cx="8429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ат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хид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кортикои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ов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рш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у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олен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рију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а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,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испонирајућ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294920"/>
            <a:ext cx="87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ро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ро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плод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хидрамни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ћ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ск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валитет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20:51:17Z</dcterms:created>
  <dc:creator>Registered User</dc:creator>
  <dc:description/>
  <dc:language>en-US</dc:language>
  <cp:lastModifiedBy>Machina</cp:lastModifiedBy>
  <dcterms:modified xsi:type="dcterms:W3CDTF">2015-05-11T12:26:12Z</dcterms:modified>
  <cp:revision>52</cp:revision>
  <dc:subject/>
  <dc:title>GESTOZE</dc:title>
</cp:coreProperties>
</file>