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0BB-6E35-4974-BDD8-04898256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96D-E4BA-423E-9B75-A135493D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147-6DCD-42C7-8D1A-353E6D7C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F08-D274-450E-9228-E56C98C2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269-243B-460B-A4E2-379AEF92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B08-2963-4987-91C6-E9C27E7B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03A-1535-4B98-85CA-8E360D0E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F1B-D9DA-44CE-924F-0B40B64D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2E5-540A-456E-BE3B-C8FD1D3A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C54-9A42-4E7D-A54E-6BB270B9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42D-9FC4-43A7-8BC8-D96C6A60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170-3A28-49E7-B9BE-F8F7A3A2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290A-05B0-4BD7-A709-9525B47F938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DIABETES MELLITUS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br>
              <a:rPr sz="3600"/>
            </a:br>
            <a:br>
              <a:rPr sz="3600"/>
            </a:b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ф. др Мирјана Варјачи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роф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гхансови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вац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о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ч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т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ј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1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о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-9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нионско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06292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тални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нкреас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агуј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УТН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омен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центрациј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и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агуј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ХРОНИЧНУ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гликемију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трофијом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плазијом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трвац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ним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чењем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рмал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ноћ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у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јабетоген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ељиц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вар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рмо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ј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уј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и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PL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strogeni i progesteron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rtizol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њ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и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њ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шићи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сно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ив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в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крецију глукаго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lacentne insulinaze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г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њ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СТАЦИЈСКИ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ЈАБЕТЕС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GDM</a:t>
            </a:r>
            <a:br>
              <a:rPr sz="3200"/>
            </a:br>
            <a:br>
              <a:rPr sz="2800"/>
            </a:b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дро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ранц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j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в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фесту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л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р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k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видите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ђ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.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ичн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вљ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иместр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р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в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истенц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б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ћ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центраци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мо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koj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тагонистички делују на инсулин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br>
              <a:rPr sz="4000"/>
            </a:br>
            <a:br>
              <a:rPr sz="3600"/>
            </a:br>
            <a:br>
              <a:rPr sz="32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inning test –O SALIVEN –MAHANOV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итич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редно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7,7 mmo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/l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GT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583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ц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GTT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ж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ци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зуриј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јаз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 kg)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5)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сомно новорођенче из предходне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00 gr)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творођеност, хабитуални побачаји 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емени порођаји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е малформације у предходној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749cdc"/>
                </a:solidFill>
                <a:latin typeface="Calibri"/>
              </a:rPr>
              <a:t>Дијагноза</a:t>
            </a:r>
            <a:r>
              <a:rPr b="1" lang="sr-Latn-CS" sz="3600" spc="-1" strike="noStrike">
                <a:solidFill>
                  <a:srgbClr val="749cdc"/>
                </a:solidFill>
                <a:latin typeface="Calibri"/>
              </a:rPr>
              <a:t> D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OGTT-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ш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7,0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учај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орк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11,1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реба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OGT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ш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5,8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6,7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OGT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6000" y="1534680"/>
            <a:ext cx="2374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100g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420640"/>
            <a:ext cx="3889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šte 5,3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60min – 10,0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20min – 8,6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80min – 7,8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35280" y="1534680"/>
            <a:ext cx="32511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7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2920" y="2688840"/>
            <a:ext cx="403236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šte 5,3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60min – 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20min – 8,6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839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ТИЦА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DIJABETESA  MELLITUSA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T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Д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Ћ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ћ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пс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пс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шћ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PIH-a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ихидрам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 (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2,7-32%)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генитал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чешћ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а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екција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в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ђај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ћ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х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рт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к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0,115%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encephalia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idronefroza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б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orektaln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UGR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-14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sceromegalia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вац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6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2152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а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 XIX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ек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в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дац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уд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ћ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ијабетич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к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ертилнос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ијаб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ич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к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 2%</a:t>
            </a:r>
            <a:br>
              <a:rPr sz="2800"/>
            </a:br>
            <a:br>
              <a:rPr sz="2800"/>
            </a:b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lin 1916. 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30 %.</a:t>
            </a:r>
            <a:br>
              <a:rPr sz="24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IAMS  1925.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.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50%.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ing, Best  1921-1922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. - откривај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и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sl-SI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хемијс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е вод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физич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к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АПИЈА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DIJABETES  MELLITUSA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НОЋИ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br>
              <a:rPr sz="3200"/>
            </a:b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в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икем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6 mmo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/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њу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ћу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хра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j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ж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аб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њ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ти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ст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бегавају инсулинска антитела која оштећују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тал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ћели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ист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тко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едњ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го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јства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вре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–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 у 4 дозе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потреб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'' penpumpi''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ноћ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ш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кон навршених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38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г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код добро регулисаних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иоцентез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u 37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г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г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ђ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j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ж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љ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уш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ских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ди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ер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јум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т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инсулином смањује јер нема фактора који делују антиинсулиногено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ривањ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од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1921-194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ртно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ц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30%.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1940-197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морталите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15%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ш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0%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стра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RDS-a.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1970.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мртно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ц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ближа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j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л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ј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ЕСТАЛО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ш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лац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2-3%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л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ћ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ETES MELLITUS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РОНИЧ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ЋА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M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ИЗ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J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 K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ИШ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ГЛИ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Ј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ДРУЖЕ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M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Ћ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M  M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ИЗ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ТИОЛОГИЈ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генск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</a:rPr>
              <a:t>а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основ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</a:rPr>
              <a:t>а</a:t>
            </a:r>
            <a:br>
              <a:rPr sz="2800"/>
            </a:br>
            <a:r>
              <a:rPr b="0" lang="sl-SI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гојазн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т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0" lang="sr-Latn-C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нфекција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нтоксикациј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a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ТОГЕНЕЗ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генетска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едиспози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insulinitis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зазв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ф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ктор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редин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омен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e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β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ћелија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које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виш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зна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j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kao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воје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актив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циј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муног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ис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деструкција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β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ћел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развој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diabetes mellitus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АСИФИКАЦИЈ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</a:t>
            </a:r>
            <a:br>
              <a:rPr sz="3200"/>
            </a:br>
            <a:br>
              <a:rPr sz="3200"/>
            </a:b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итет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ј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SZO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марни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-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висни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кундарни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зависни</a:t>
            </a:r>
            <a:br>
              <a:rPr sz="2800"/>
            </a:b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а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ела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ЗО</a:t>
            </a:r>
            <a:br>
              <a:rPr sz="3200"/>
            </a:b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иничка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фик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ј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</a:t>
            </a:r>
            <a:br>
              <a:rPr sz="3200"/>
            </a:br>
            <a:br>
              <a:rPr sz="32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сул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вис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и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сул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завис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и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гојазни и гојазни)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л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ц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у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гојазни-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j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стацијск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166"/>
                </a:solidFill>
                <a:latin typeface="Calibri"/>
                <a:ea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ISCIL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  WHITE ’S (1965,1976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dovoljna je samo dijeta.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početak bolesti posle 19.god, trajanje bolesti manje od 10 g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početak bolesti od 10-19 god, trajanje duže od 10 g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trajanje bolesti više od 20 god, retinopatija i hipertenzija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 –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iliferativna retinopatija i/ili krvarenje u stakl. telu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nefropatija sa proteinurijom ≥ 500mg/dnevno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udruženi kriterijumi za obe klase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 klinički evidentirane bolesti srca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stanja pre bubrežne transplantacij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8:00:21Z</dcterms:created>
  <dc:creator>Registered User</dc:creator>
  <dc:description/>
  <dc:language>en-US</dc:language>
  <cp:lastModifiedBy>Machina</cp:lastModifiedBy>
  <dcterms:modified xsi:type="dcterms:W3CDTF">2015-05-11T12:25:18Z</dcterms:modified>
  <cp:revision>24</cp:revision>
  <dc:subject/>
  <dc:title>DIABETES MELLITUS U TRUDNOĆI</dc:title>
</cp:coreProperties>
</file>